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РУЧНА СТУДЕНТСКА ПР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ње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ц. др. Мирослав Соврлић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907920"/>
            <a:ext cx="914400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ефинисане хемијске супстанце попут антибиотика, дрога, завојног материјала, серума и вакцина  - наводи се порекло и добијање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репарате код којих се прописује одређивање наведен је прописан садржај активне компон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екст 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 односи на израду, особине, микроскопију, идентификацију, константе, испитивање степена чистоће, одређивање садржа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е и употре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ерил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копатиб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увањ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оними, скраћенице и напом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је израда препарата прописана, наводи се количина саставних компонеата из којих се препарат израђује и начин изра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е препарата – боја, облик, мирис, укус растворљи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нтификација, константе и испитивање степена чистоће односе се на лековите и помоћ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чко-технолошка испитивања односе се на завојни матер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дређивања активности наводи се поступак одређивања, као и прописане границе садржаја активне компоненте у препарату, у оквиру којих се мора налазити садржај активне компон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шта испитивања подразумевају испитивања заједничка за једну групу лековитих препарата, као што су таблете, инјкције као и за етарска и масна уља, антитоксине и вакц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е појединачне (терапијске) и највеће појединачне (максималне) изражавају се у грамима (g), или интернационалним јединицама (i,j.) и важе за одраслог човека за ентералну или парентералну при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 за примену на кожу и слузокожу наведене су као средње концентрације (% препарата у вехикулу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доза је највећа количина лековитог препарата која се одраслом човеку сме дати  за једнократну или днев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пот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341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ши медицинско снабдевање становништва, здравствених установа лековима и медицинским средствима и даје упутство за њихову правилну употр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рађује магистралне лекове и галенске препар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ти стручна и научна достигнућа у области фарма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 пословања ап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ослени са високом стручном спремом из области фармације под чијим се надзором израђују, складиште, испитују, издају и чувају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довање одговарајућих уређаја, опреме и просторија за израду, контролу, складиштење и издавањ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и фармацеути са положеним стручним испитом под чијим се непосредним надзором обавља пријем,  смештај, чување и издавање лекова и медицинских сред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техничари – врше техничке послове у вези са пријемом, смештајем и израдом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стручна литература – национална фармакопеја, магистралне формуле, регистар лекова, приручник о отровима и антидотима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 ап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 – 15 метара квадра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цин – 8 метара квдр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дероба и санитарни чвор – 7 метара квадра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а за израу и контролу магистралних и галенских препарата – 15 метара квадра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Галенски препар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980640"/>
            <a:ext cx="863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овити препарати који се припремају у апотец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ex tem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премају се 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рог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хемијских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различити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армацеутско-технолошким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ступцима (мешањем, екстраховањем, растварањем и сл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У зависности од места апликације припремају се различити облици гален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У састав галенских препарата улаз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на или 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е лековитих супстанци као активни принци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remеdiu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лек,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упстанце које служе као помоћне ма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101600"/>
            <a:ext cx="894240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Официнални лек</a:t>
            </a:r>
            <a:r>
              <a:rPr b="1" lang="sr-CS" sz="24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 и начин израде  налази се описан у домаћим фармакопејама, магистралним формулама или страној фармацеутској литератури. У том случају лекар пише само име препарата у генитиву и ко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irupi Ephedrini compositi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ng. Emollientis 50,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  Mixturae brom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3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412640" y="260280"/>
            <a:ext cx="68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Times New Roman"/>
              </a:rPr>
              <a:t>ВРСТЕ РЕЦЕПАТА КОЈИ СЕ СУСРЕЋУ</a:t>
            </a:r>
            <a:r>
              <a:rPr b="1" i="1" lang="sr-CS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Магистрални лек –</a:t>
            </a:r>
            <a:r>
              <a:rPr b="1" lang="sr-CS" sz="2400" spc="-1" strike="noStrike" u="sng">
                <a:solidFill>
                  <a:srgbClr val="80808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рецепту су написани сви састојци и њихове количине потребне за израду одговарајућег фармацеутског облика, при чем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 састојака лекар пише арапским бројем са тачношћу на две децима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Изузетак су капи које се пишу римским бројевима. Количине су увек изражене у грамима без обзира да ли се ради о чврстој или течној суп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i bor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i benzoic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h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thero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entae gtt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ficat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56152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Готов лек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–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и су најчешћи у пракси, пишу се без скраћивања, а број паковања које треба издати пише се РИМСКИМ БРОЈЕМ. Ако се готов лек налази у промету у разним облицима лекар то мора да означи назначујући његов изб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ко не назначи, издаје 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мање паковање и најслабија д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trim tabl I (u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невно по 2 табл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УЛОГА ФАРМАЦЕУТА У СПРОВОЂЕЊУ ЗДРАВСТВЕНЕ ЗАШ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вање лекова и медицинских средст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зрад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магистралних/галенс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вет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ање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циј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 о употреби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ћ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дње са пацијентом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мпл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ћење терапије (прикупљање повратних информација о ефикасности л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ђење трошков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апије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ационални миним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42920" y="-171720"/>
            <a:ext cx="3816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цепт је писмени захтев лекара, стоматолога или ветеринара да се у апотеци изради или изд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ови рецеп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1. Inscriptio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лавље- назив здравствене организације (амбуланте, болнице итд.) или име и презиме лекара у приватној пр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2. </a:t>
            </a:r>
            <a:r>
              <a:rPr b="1" i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Nomen aegroti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е, презиме и адреса пацијента, подаци из здравствене књижице, број година или месеци де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3. </a:t>
            </a:r>
            <a:r>
              <a:rPr b="1" i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Invocatio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p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рећено 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ecip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значи „узми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42920" y="-36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800000"/>
                </a:solidFill>
                <a:latin typeface="Arial"/>
              </a:rPr>
              <a:t>РЕЦЕП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800000"/>
                </a:solidFill>
                <a:uFillTx/>
                <a:latin typeface="Arial"/>
              </a:rPr>
              <a:t>4. </a:t>
            </a:r>
            <a:r>
              <a:rPr b="1" i="1" lang="sr-Latn-CS" sz="2000" spc="-1" strike="noStrike" u="sng">
                <a:solidFill>
                  <a:srgbClr val="800000"/>
                </a:solidFill>
                <a:uFillTx/>
                <a:latin typeface="Arial"/>
              </a:rPr>
              <a:t>Ordinatio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и део рецепта у коме се може наћи п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с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Официнални лек  (на основу прописа у фармакопеји)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Магистралан лек (на основу знања фармацеута)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Готов лек (специјалит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5</a:t>
            </a:r>
            <a:r>
              <a:rPr b="1" i="1" lang="sr-CS" sz="2000" spc="-1" strike="noStrike" u="sng">
                <a:solidFill>
                  <a:srgbClr val="800000"/>
                </a:solidFill>
                <a:uFillTx/>
                <a:latin typeface="Arial"/>
              </a:rPr>
              <a:t>.</a:t>
            </a:r>
            <a:r>
              <a:rPr b="1" i="1" lang="sr-Latn-CS" sz="2000" spc="-1" strike="noStrike" u="sng">
                <a:solidFill>
                  <a:srgbClr val="800000"/>
                </a:solidFill>
                <a:uFillTx/>
                <a:latin typeface="Arial"/>
              </a:rPr>
              <a:t> Subscripio</a:t>
            </a:r>
            <a:r>
              <a:rPr b="1" i="1" lang="sr-Latn-C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утство фармацеуту који облик лека треба да изради, Пр.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is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„помешај“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a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„нека буде“) или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isc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„помешај“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a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„нека буду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Solutio -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Suspensio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- 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Oculoguttae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– капи за 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Emulsio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- емул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Ungeuntum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- м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Crem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- к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Suppositoria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 – супозиториј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8920" y="228600"/>
            <a:ext cx="8812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лекар прописује готов лек наглашава колико паковања жели римским број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 прописује више него штоје уобичајено написаће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CESSE ES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„потребно је“ а затим број паковања и римским бројем и слов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CESSE EST DA LAGENAS ORIGINALES No II (du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 лекар не назначи величину паковања и јачину, издаје се НАЈМАЊЕ ПАКОВАЊЕ И НАЈСЛАБИЈА Д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 u="sng">
                <a:solidFill>
                  <a:srgbClr val="800000"/>
                </a:solidFill>
                <a:uFillTx/>
                <a:latin typeface="Arial"/>
              </a:rPr>
              <a:t>6. Signatur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упутство пацијенту о начину примене лека на народном јез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g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чи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a sign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„дај означи“,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а скраћено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D.S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гнатура се пише на латинск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о лек иде лично у руке лека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um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dic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„у руке лекару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Ad usum propriu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„за личну употребу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Pro 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„за мен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igna suo nomin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–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означити име лека на сигн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igna cum formul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написати комплетан састав лека на сигн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 u="sng">
                <a:solidFill>
                  <a:srgbClr val="800000"/>
                </a:solidFill>
                <a:uFillTx/>
                <a:latin typeface="Arial"/>
              </a:rPr>
              <a:t>7. Nomen medici</a:t>
            </a:r>
            <a:r>
              <a:rPr b="1" i="1" lang="sr-CS" sz="2000" spc="-1" strike="noStrike" u="sng">
                <a:solidFill>
                  <a:srgbClr val="800000"/>
                </a:solidFill>
                <a:uFillTx/>
                <a:latin typeface="Arial"/>
              </a:rPr>
              <a:t>- име 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На рецепту се још могу наћи следеће озна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O –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„брзо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ICULUM IN MORA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- „опасно је оклева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TE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– „окре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G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– „по пропису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12500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ецепту које се издаје за лице млађе од 15 година морају бити назначене године живота, а за лице млађе од 1 године – дан, месец и година рођ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едном делу рецепта мора остати слободан простор за уписивање цене лека и потписа овлашћеног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 има значај јавне испр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Шта је потребно урадити након приспећа рецепта за израду препарата у апотец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Утврдити да ли је препарат галенски тј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фицинал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 по 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важећој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ли некој другој фармакопеји или магистралним формула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Ако препарат није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фициналан, онда је магистралан и треба га израдити према задатом пропису и општем познавању методе израд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Препознати структуру препарата и с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аставни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делов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(remedium cardinale, remedium adjuvans, remedium corrigens, remedium constitue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Проверити дозу или концентрацију и евентуално их кориговати у случају потреб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зрачуна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потребн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количин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састојака (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сновним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математичк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перацијам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524"/>
              </a:spcBef>
              <a:buClr>
                <a:srgbClr val="8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Израдити и издати препарат пацијент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Ординацио </a:t>
            </a: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је део рецепта у коме се означава назив или састав л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стоји  се обично од четири елемен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Remedium cardinale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-  главн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 дел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ју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ћа супстанц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Remedium adjuvans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помоћно лековито средство које потпомаже или употпуњава дејство главнoг лек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Remedium constituens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редства за допуну -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индиферентна супстанца која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служи да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 повећa укупн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 мaс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у препарат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скроб, сахaрозa, лaктозa</a:t>
            </a:r>
            <a:r>
              <a:rPr b="1" lang="sr-Latn-CS" sz="25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24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0000"/>
                </a:solidFill>
                <a:latin typeface="Arial"/>
              </a:rPr>
              <a:t>Remedium corigens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супстанце које поправљају укус или мирис главног ле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800000"/>
                </a:solidFill>
                <a:latin typeface="Arial"/>
              </a:rPr>
              <a:t>ОБЕЛЕЖАВАЊЕ НА РЕЦЕПТ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 појединих састојака лекар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писуј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арапским бројеви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 то са тачношћу на две децима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узетак чине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кап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које се пишу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римским броје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 се увек изражавају у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грамим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без обзира да ли је течна или чврста супста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д прописивања лековитих супстанци јаког деловања у врло малим количинама лекар може написати количину у центиграмима (cg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милиграмима (mg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наглашавајући једи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знака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q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. означава “колико је потребно”</a:t>
            </a:r>
            <a:r>
              <a:rPr b="1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што значи да фармацеут мора на основу свог знања сам да прорачуна колико те супстанце треба да у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800000"/>
                </a:solidFill>
                <a:latin typeface="Arial"/>
              </a:rPr>
              <a:t>ОБЕЛЕЖАВАЊЕ НА РЕЦЕ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ој доза (нпр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ој прашкова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озиторија итд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назначен је римским броје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на рецепту пише поред неке супстанце реч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знач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„до“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а је у наставку наведена количина до које треба ту супстанцу прерачунати и употребити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две или више лековитих супстанци прописују на рецепт у истим количинама, онда се цифре које означавају количину ставе само поред последње по реду, а пре тих цифара стави се знак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скраћено од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na partes aequales =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у једнаким колич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1371600" y="4191120"/>
            <a:ext cx="95400" cy="1440"/>
          </a:xfrm>
          <a:custGeom>
            <a:avLst/>
            <a:gdLst>
              <a:gd name="textAreaLeft" fmla="*/ 0 w 95400"/>
              <a:gd name="textAreaRight" fmla="*/ 95760 w 95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" h="1">
                <a:moveTo>
                  <a:pt x="0" y="0"/>
                </a:moveTo>
                <a:lnTo>
                  <a:pt x="12" y="0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924360" y="42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36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cidi salicylici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0,75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emedium cardinal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ethanoli diluti  ad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25,0</a:t>
            </a:r>
            <a:r>
              <a:rPr b="0" lang="sr-Latn-CS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Remedium adjuva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.f.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с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p/ Acidi salicylic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idi benzoic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inci ox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alc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a ad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M.f.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pul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D.S.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с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52360" y="1890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20364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би биле задовољене потребе свих пацијената који примају дату терапиј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производ производи 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/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азличитих фармацеутских облик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ј начин фармацеутски произвођач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ују оквир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ичн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ово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е већине пацијената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не и потреб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цијен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рмацеут 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ОЖЕ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з 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ЗНАВАЊЕ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основних принципа израде магистралних препарата и сопствен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е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ин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 раду,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а припреми препарате које фармацеутска индустрија 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НУДИ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а који 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су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илагођени </a:t>
            </a:r>
            <a:r>
              <a:rPr b="1" i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пецифичним</a:t>
            </a:r>
            <a:r>
              <a:rPr b="1" lang="sl-SI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отребамa пaцијенaтa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у неком  временски ограниченом пери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имски бројеви који се користе у фармацији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no,una,un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o, duae, du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, t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ttu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n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VI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   VII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III   o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    IX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  X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4360" y="14130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XX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ig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  XXX      tri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  XL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adr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L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nqu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    LX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x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  LXX       sept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  LXXX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     XC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ag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    C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     D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quing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  M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637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Магистрални лек је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 израђен у апотеци на основу рецепта (формуле) за одређеног пацијента - корисника.</a:t>
            </a:r>
            <a:br>
              <a:rPr sz="3200"/>
            </a:br>
            <a:r>
              <a:rPr b="1" lang="sr-Latn-CS" sz="32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Галенски лек је лек</a:t>
            </a:r>
            <a:r>
              <a:rPr b="1" lang="sr-CS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рађен у галенској лабораторији апотеке у складу са важећим фармакопејама или важећим магистралним формулама и намењен је за издавање или продају пацијентима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исницима те апотек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33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Фармакопе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рмакопеја је службени пропис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валите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питивањ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зирању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увању лекова и лековитих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828800" y="4419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рмакопеја даје стандарде за све официналне лековите супстанце и лековит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ме “</a:t>
            </a:r>
            <a:r>
              <a:rPr b="1" lang="sr-CS" sz="2400" spc="-1" strike="noStrike">
                <a:solidFill>
                  <a:srgbClr val="800000"/>
                </a:solidFill>
                <a:latin typeface="Times New Roman"/>
              </a:rPr>
              <a:t>Фармакопеј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потиче од речи “</a:t>
            </a:r>
            <a:r>
              <a:rPr b="1" i="1" lang="sr-Latn-CS" sz="2400" spc="-1" strike="noStrike">
                <a:solidFill>
                  <a:srgbClr val="800000"/>
                </a:solidFill>
                <a:latin typeface="Times New Roman"/>
              </a:rPr>
              <a:t>pharmаco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 што значи лек  и “</a:t>
            </a:r>
            <a:r>
              <a:rPr b="1" i="1" lang="sr-Latn-CS" sz="2400" spc="-1" strike="noStrike">
                <a:solidFill>
                  <a:srgbClr val="800000"/>
                </a:solidFill>
                <a:latin typeface="Times New Roman"/>
              </a:rPr>
              <a:t>poe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  што значи  пр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ит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489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800000"/>
                </a:solidFill>
                <a:latin typeface="Arial"/>
              </a:rPr>
              <a:t>Фармакопе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pri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33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secund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I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tert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II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harmacopoea Jugoslavica edit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rt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h.Jug.IV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на снази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00"/>
                </a:solidFill>
                <a:latin typeface="Arial"/>
              </a:rPr>
              <a:t>Pharmacopoea Jugoslavica editio quinta (Ph.Jug.V)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-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а представља превод општег дела трећег издања Европске фармакопејe из 1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Југословенска фармакопеја 2000 – </a:t>
            </a:r>
            <a:br>
              <a:rPr sz="3200"/>
            </a:b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Ph. 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љена је у два де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од , општи де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нографије материје медике абецедним р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Југословенска фармакопеја IV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.Jug.I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916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љена је у два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говор, увод, општи део, таблице и ин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материје мед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е биљног, животињског или минералног пор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биолош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е препар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матер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981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ја медика има следећи начин излаг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слов и поднас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ов монографија је латински наз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наслов обухвата народне нази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ационални хемијски назив(ЈУПА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ис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хвата најважније 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рганска једињења – дефинисана су симболом, формулом, релативном атомском или молекулском ма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ска једињења – бруто формула, релативна атомска маса, структурна формула, хемијске формуле према (ЈУПА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ca</cp:lastModifiedBy>
  <dcterms:modified xsi:type="dcterms:W3CDTF">2018-02-21T07:37:59Z</dcterms:modified>
  <cp:revision>46</cp:revision>
  <dc:subject/>
  <dc:title>Slide 1</dc:title>
</cp:coreProperties>
</file>